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7E6-BCD4-4E7C-8113-70CD8781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5C7-95A4-4470-ACA1-A9F0F52E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B8F-BF68-4E3A-8DEE-D7F20FE3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148-0118-4D42-A54D-43843EF7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762A-FDE2-479A-A2A3-682FEDE7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040-9A3F-4747-9C97-F249F438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E95-9365-4AB5-929F-5FA2445D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4DF-4FFE-41A9-AAB5-01BECE22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341-DFFA-49B9-9511-EE646D34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338-908D-4754-BC3F-9BF7311E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82D-4C34-4BE3-AC56-4A864757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9BF-4493-4296-B5BE-342B8AB1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FBE3-57EE-4274-AC0D-8DF28142C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91658" dir="2017659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Eras Bold ITC"/>
              </a:rPr>
              <a:t>FIRE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51460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Eras Bold ITC"/>
              </a:rPr>
              <a:t>How do firefighters use math in fighting f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ras Bold ITC"/>
              </a:rPr>
              <a:t>by Dia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the Pythagorean Theor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295280"/>
            <a:ext cx="83059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ythagorean Theorem: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+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height of each floor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width of building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length of fire escape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3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6 + 900 = 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≈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**The length in feet of the fire escape is about 33 feet.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2657520" cy="289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81480" y="5867280"/>
            <a:ext cx="3505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e discovered these math skills which fire fighters use in other situa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8840" y="18288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a and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ac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p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gativ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rc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stical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178440" cy="5334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33720" y="6400800"/>
            <a:ext cx="2286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urce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"Certification of Training and Education Programs."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ennessee Department of Stat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Mar 1999. Commission on Fire Fighting. 17 Feb 2008 &lt;http://www.state.tn.us/sos/rules/0360/0360-02-01.pdf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"FIRE!."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PrimeTime Mat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Ed. David A. Dockterman. Watertown, MA: Tom Snyder Productions, 199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ui, T. L.. "Firefighting occupations."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XP Mat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7. 10 Feb 2008 &lt;http://www.xpmath.com/careers/jobsresult.php?groupID=3&amp;jobID=9&gt;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ictures collected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ClickArt 400,00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2. Riverdeep Interactive Learning Limited, and its licen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 our fire fighting simulation, we used these math skill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14600" y="2057400"/>
            <a:ext cx="6019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mulas (using basic algeb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asurements and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90920" y="447840"/>
            <a:ext cx="1981080" cy="6410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981440" cy="641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673680"/>
            <a:ext cx="3200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525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a=(length)(width)=(40)(30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200; so the horizontal factor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tical factor = 50(2)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tical + horizontal = 100 + 50 = 150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formul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609480" y="2590920"/>
            <a:ext cx="4038840" cy="2463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5334120"/>
            <a:ext cx="510552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**150 feet of attack line required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509760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105520"/>
            <a:ext cx="3505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formul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G +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 = size of nozzle tip in i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 = gallons per minute from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200 +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 = 1 inch nozzle t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***1 inch nozzle tip needed.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876920" y="1752480"/>
          <a:ext cx="31366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31366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952880" y="5181480"/>
            <a:ext cx="312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formul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600200"/>
            <a:ext cx="4267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length of attack line) = (.1)(150) = 15 p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***Friction loss in psi for total length of attack line = 15 psi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664080" cy="3886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67280" y="5715000"/>
            <a:ext cx="312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formul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523880"/>
            <a:ext cx="4267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length of supply line) = (.04)(100) = 4 p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***Friction loss in psi for total length of supply line = 4 psi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3386160" cy="4038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6019920"/>
            <a:ext cx="3276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rat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utes remaining in tank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otal breaths in tank – Breaths alread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eathing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24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 baseline="-26000">
                <a:solidFill>
                  <a:srgbClr val="ffff00"/>
                </a:solidFill>
                <a:latin typeface="Arial"/>
              </a:rPr>
              <a:t>=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.86 min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**Rasheed has about 6.9 minutes left u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burden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breathing conditions.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91320" y="457200"/>
            <a:ext cx="208908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562720" y="2895480"/>
            <a:ext cx="3276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the Pythagorean Theor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ythagorean Theorem: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+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height of floor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(length of bldg.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(length of stairs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4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6 + 1600 = 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≈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**The length in feet of the inside stairs is about 42 feet.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2438280" cy="242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5943600"/>
            <a:ext cx="32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the Pythagorean Theor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295280"/>
            <a:ext cx="83059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ythagorean Theorem: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+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height where ladder will touch bldg.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distance from base of ladder to base of bldg.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(length of ladder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6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2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6 = 5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≈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23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**The distance from the base of the building to where the ladder will touch the building is 23 feet.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286000" cy="3504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5880" y="5715000"/>
            <a:ext cx="3200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3:11:14Z</dcterms:created>
  <dc:creator>Greenville Schools</dc:creator>
  <dc:description/>
  <dc:language>en-US</dc:language>
  <cp:lastModifiedBy>Greenville Schools</cp:lastModifiedBy>
  <dcterms:modified xsi:type="dcterms:W3CDTF">2008-02-19T01:16:04Z</dcterms:modified>
  <cp:revision>39</cp:revision>
  <dc:subject/>
  <dc:title>Slide 1</dc:title>
</cp:coreProperties>
</file>